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806-1362-4C03-BE2F-F27D1CA0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B5D-E6A2-41EF-A89C-284D1DD9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F22-7964-4CFB-990F-0256296E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691-EB85-482E-AC11-F70A9086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02F-C747-4D9B-AE1E-705F30A7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DD1-726F-4478-8A09-C37FB421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13C-E15D-4452-8001-9F1C9209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FC1-2F0C-4E5D-81A6-EC66D9C7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63B-0F6D-4857-9A83-302F9D03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D26-4C45-4D94-8042-47DB6755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9E7-F5FC-43E2-B599-D621CD14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3DD-BC74-4AF3-9854-EF8B5A6C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f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4318-9BD0-41C0-A2A4-32CA71F72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f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44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2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57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60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a duck swi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44956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" dur="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" dur="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" dur="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" dur="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f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81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83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90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95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98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a duck re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095880" y="4551480"/>
            <a:ext cx="3048120" cy="853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44956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5" dur="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" dur="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" dur="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5" dur="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f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120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22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9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134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137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your mother c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4419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5" dur="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6" dur="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4" dur="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5" dur="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f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867280" y="4487760"/>
            <a:ext cx="3276720" cy="917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158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60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7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172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175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dogs brush their tee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4419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3" dur="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4" dur="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6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7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8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2" dur="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3" dur="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f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196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98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05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210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213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monkeys climb tr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0" y="4419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7" dur="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8" dur="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6" dur="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7" dur="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f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234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236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43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248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251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you and your friend s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400800" y="2133720"/>
            <a:ext cx="457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315200" y="4419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1" dur="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2" dur="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0" dur="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1" dur="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2:44:12Z</dcterms:created>
  <dc:creator>Gabi Sandru</dc:creator>
  <dc:description/>
  <dc:language>en-US</dc:language>
  <cp:lastModifiedBy>Gabi Sandru</cp:lastModifiedBy>
  <dcterms:modified xsi:type="dcterms:W3CDTF">2010-02-05T23:28:22Z</dcterms:modified>
  <cp:revision>4</cp:revision>
  <dc:subject/>
  <dc:title>Slide 1</dc:title>
</cp:coreProperties>
</file>